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751E29-133C-41C3-A787-8FFAF5494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AA6F3D-9F96-420D-A01C-C5C13E4544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le is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A18270-03D6-4D15-BFD5-2481928CD7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D8F-2944-40F1-80B1-EE2A6009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B0D-AA65-4BDB-976C-3EE9EFE1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910-9254-40C4-9D1B-34CCA10B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2BC-F7DA-4F6C-836B-3402F9D8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9B80-2ABA-49E6-8782-20C178B9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3B6D-94EF-4F92-8A2F-8256AFB9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8B9A-F003-4B7F-9FD0-F741D168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CBBA-21BD-48EB-8E8D-CE9DDBE9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2A86-7D17-4D4C-BFA1-745AF608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9A4D-8A15-47CD-82A5-2CD7867D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AA96-28D2-4D75-8403-DF17A936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B34-8BAE-491E-8F38-0359C40C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49EE-F798-429F-B6B8-C429E17D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6CF9-C034-489B-B15A-56C44E86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2FC4-BC31-42E1-A86A-891425D2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C3B2-FD0B-454A-82AB-05DBB256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D700-D0A9-44B2-821D-82545319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5DD9-D704-473F-A5A7-DC3A7435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3F6-75F0-4B1E-B8D8-E0B5CAC9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1CC-09FE-4519-B63B-7E727770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951-691B-4BC4-804D-3974AEE9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ACF-69F6-4525-AC3F-D9C54989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232A-E332-4971-87A3-9BABFA19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AB4-BE25-4691-BE5A-719F73B2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AU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1F60CA-F93D-47A5-8E09-A7ABB7D62534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ext styles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ond level</a:t>
            </a:r>
            <a:endParaRPr b="0" lang="en-A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rd level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urth level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fth level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AU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C3009E-E85B-4F9B-B778-367BA7B1880B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Testbed" TargetMode="External"/><Relationship Id="rId2" Type="http://schemas.openxmlformats.org/officeDocument/2006/relationships/hyperlink" Target="http://wiki.esipfed.org/index.php/Testbed" TargetMode="External"/><Relationship Id="rId3" Type="http://schemas.openxmlformats.org/officeDocument/2006/relationships/hyperlink" Target="http://wiki.esipfed.org/index.php/Semantic_Web_Tutorials" TargetMode="External"/><Relationship Id="rId4" Type="http://schemas.openxmlformats.org/officeDocument/2006/relationships/hyperlink" Target="http://wiki.esipfed.org/index.php/Semantic_Web_Tutorials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IP Semantic Web Products and Services ‘triples’ “tutorial”</a:t>
            </a:r>
            <a:br>
              <a:rPr sz="4400"/>
            </a:br>
            <a:r>
              <a:rPr b="0" i="1" lang="en-AU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ka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ausage making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AU" sz="30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ESIP SW Cluster, Jan 6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iki.esipfed.org/index.php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/Testbed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See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3"/>
              </a:rPr>
              <a:t>http://wiki.esipfed.org/index.php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4"/>
              </a:rPr>
              <a:t>Semantic_Web_Tutorials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ing the resources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276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art from the artifacts and actor resources, you may find gaps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knowledge encoding is also a resource, make it a first class citizen, i.e. give it a namespace and a URI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ten, a test-bed with local data is very useful at the start the implementation process, i.e. pull the data, maybe even implement their service (database, etc.)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4CCCF3-BB61-4222-9CAE-5E971595F1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24200"/>
            <a:ext cx="868644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 to the knowledge encoding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2120" y="1034280"/>
            <a:ext cx="8229240" cy="5440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ve: OWL, RDFS, SKOS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rules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query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 expert review and iteration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ns you need something that they can review, with precise names, properties, relations, etc.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knowledge engineering stage is much like a software engineering process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1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45413C-0772-43F2-8C30-157BD6E151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is: Sample Queries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ch projects are working with semantic web technology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technologies are being used in NASA’s ACCESS program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e any projects working with the same dataset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ch datasets are being used in projects working with semantic web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Case 1: Enter Project Data (cont.)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4000"/>
          </a:bodyPr>
          <a:p>
            <a:pPr marL="466560" indent="-466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Case 1: Enter Project Data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 Defini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one from the project is assigned to populate the triple store with the project information. This capability is supplied via a simple Web interface.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mary Actor:  Project staff member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:  Enter project information into the triple store.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umptions:   The staff member knows enough about his/her project to populate the fields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9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Case 1: Enter Project Data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8280" y="1144800"/>
            <a:ext cx="8747640" cy="5089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 startAt="6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enario</a:t>
            </a:r>
            <a:endParaRPr b="0" lang="en-AU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face asks for overall project information:  name and program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enters basic project information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interface saves root project triple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selects Add Staff and Web interface presents existing staff, plus blank for staff not yet in triple store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selects existing staff and possible role, and Web interface saves triples linking staff to project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selects Add Technology and Web interface presents existing technologies, plus blank for technologies not yet in triple store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selects existing technology, and Web interface saves triples linking technology to project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selects Add Datasets and Web interface presents existing datasets, plus blank for datasets not yet in triple store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selects existing dataset, and Web interface saves triples linking technology to project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 startAt="6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tensions</a:t>
            </a:r>
            <a:endParaRPr b="0" lang="en-AU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b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enters new staff and picks existing role and Web interface saves triples linking staff to project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b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enters new technology and Web interface saves triples linking technology to project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b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enters new dataset and Web interface saves triples linking dataset to project</a:t>
            </a:r>
            <a:endParaRPr b="0" lang="en-AU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. Definition of success:  triples are added to the database</a:t>
            </a:r>
            <a:endParaRPr b="0" lang="en-A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, recall – our first iteration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 that we can rapid prototype, instead of implementing an ‘interface’ as defined in the “add record”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 generated a set of instances (i.e. partial or complete record)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o tried it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did it work/ not?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ond iteration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ing an ‘interface’ as defined in the “add record”, to generate instances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’s talk about what they may look like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’s next …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Case 2: Produce Program Technology Inventory 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Case 2: Produce Program Technology Inventory 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 Defini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ency program manager gets a report on what technologies are being used in his program.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mary Actor:  Agency program manager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:  Get a report on technology usage for planning purposes (or occasional “fire drill”).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umptions:   The program’s projects have been entered into the triple store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duce Technology Inventory, cont.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 startAt="6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enario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pulls up Technology Inventory Report and selects from available programs.</a:t>
            </a:r>
            <a:endParaRPr b="0" lang="en-AU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Interface queries triple store for technologies used by projects within the select program and generates a report.</a:t>
            </a:r>
            <a:endParaRPr b="0" lang="en-AU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. Extensions: None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. Definition of success:  Program Manager gets a formatted list of which projects are using which technologies within his / her program.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. Notes:  This scenario is not uncommon, particularly for new technologies.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y and What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420920"/>
            <a:ext cx="9143640" cy="5148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d PM Session 1</a:t>
            </a:r>
            <a:endParaRPr b="0" lang="en-A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roduction – 10 mins – Peter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case – motivation and scope – 20 mins - Chris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l – based on use case, start with domain model and proceed to ontology model and then show them how to engineer it (i.e. a piece of it) – 1 hr – Peter and Rob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d PM Session 2</a:t>
            </a:r>
            <a:endParaRPr b="0" lang="en-A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l ctd – 20 mins – Peter and Rob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stance generation and population (how to? Write turtle, use Protégé, …), triple store ingest, web form – demo – 1 hr – Peter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mmary and evaluation – 10 mins –Hook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and how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20920"/>
            <a:ext cx="9143640" cy="5148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u AM Session 3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ro to these sessions – 10 min - Peter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cation definition – decompose use case, review technology and dependencies, examine requirements for search and report, add/ correct instances, technology dependencies – 30 mins – Peter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aluation –10 mins - Hook 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u AM Session 4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ery development – query introduction, SPARQL tutorial, generate SPARQL, follow along, provide a web query form, cut paste query into a textbox and execute and get result, for visual or text traversal - 1hr – Hook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aluation –10 mins - Hook </a:t>
            </a:r>
            <a:endParaRPr b="0" lang="en-A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ems that would lead into intermediate (next) tutorial – 20 mins</a:t>
            </a: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cation definition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ans examine the use case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ope the first iteration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ful to think about metrics and record baselines (if they exist)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604DBE-0B9E-4D4F-AC1F-09223BD016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 Basics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28600" y="990720"/>
            <a:ext cx="8610120" cy="5333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your use case with team and experts</a:t>
            </a:r>
            <a:endParaRPr b="0" lang="en-A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 into detail of your ontology; test it using the tools you have</a:t>
            </a:r>
            <a:endParaRPr b="0" lang="en-A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 at the use case document and examine the actors, process flow, artifacts, etc.</a:t>
            </a:r>
            <a:endParaRPr b="0" lang="en-A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rt to develop a design and an architecture </a:t>
            </a:r>
            <a:endParaRPr b="0" lang="en-A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in mind that it is more flexible to place the formal semantics within your interfaces, i.e. between layers and components in your architecture or betwe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users’ and ‘information’ to mediate the exchange</a:t>
            </a:r>
            <a:endParaRPr b="0" lang="en-A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7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ors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440" cy="5943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nitial analysis will often have many human actors</a:t>
            </a:r>
            <a:endParaRPr b="0" lang="en-AU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 to see where the human actors can be replaced with machine actors – many will require additional semantics, i.e. knowledge encoding</a:t>
            </a:r>
            <a:endParaRPr b="0" lang="en-AU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you are doing this in a team, take steps to ensure that actors know their role and what inputs, outputs and preconditions are expected </a:t>
            </a:r>
            <a:endParaRPr b="0" lang="en-AU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ten, you may be able t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run’ the use case (really the model) before you build anything</a:t>
            </a:r>
            <a:endParaRPr b="0" lang="en-A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CB554B-1495-4DAD-9382-B7355562C1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flow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534160" cy="5714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element in the process flow usually denotes a distinct stage in what will need to be implemented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ten, actors mediate the process flow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 the activity diagram (and often a state diagram) as a means to turn the written process flow into a visual one that your experts can review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sure the artifacts and services have an entry in the resources section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ten the time you may do some searching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95A7F6-4D53-43C6-A198-8B90960566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conditions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ten the preconditions are very syntactic and may not be ready to fit with your semantically-rich implementation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level of modeling of these preconditions may be required (often this will not be in your first-pass knowledge encoding, which focuses on the main process flow, i.e. goal, description, etc.)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ware of using other entities data and services: e.g., policies, access rights, registration,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cost’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ED8F07-9E09-430F-9EAC-8BF7C962AB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tifacts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3640" cy="5790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artifacts that the use case generates to the resources list in the table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often useful to record which artifacts are critical and which are of secondary importance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thinking of provenance and the way these artifacts were produced, i.e. what semantics went into them use this information to produce suitable metadata or annotations 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age the actors to determine the names of these artifacts and who should have responsibility for them  (usually you want the actors to have responsibility for evolution)</a:t>
            </a:r>
            <a:endParaRPr b="0" lang="en-A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26AC64-053B-439D-9593-6023A4B685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4</TotalTime>
  <Application>LibreOffice/7.4.7.2$Linux_X86_64 LibreOffice_project/40$Build-2</Application>
  <AppVersion>15.0000</AppVersion>
  <Words>1243</Words>
  <Paragraphs>1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8:51:09Z</dcterms:created>
  <dc:creator>Peter Fox</dc:creator>
  <dc:description/>
  <dc:language>en-US</dc:language>
  <cp:lastModifiedBy>Peter Fox</cp:lastModifiedBy>
  <dcterms:modified xsi:type="dcterms:W3CDTF">2011-01-06T14:52:11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On-screen Show (4:3)</vt:lpwstr>
  </property>
  <property fmtid="{D5CDD505-2E9C-101B-9397-08002B2CF9AE}" pid="4" name="Slides">
    <vt:r8>19</vt:r8>
  </property>
</Properties>
</file>